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640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4772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640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4772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90720" y="759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1640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4772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44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1640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4772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759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934320" y="6396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Slide 4.2-</a:t>
            </a:r>
            <a:fld id="{97A9B5FD-3D7A-4FBC-9FB1-1948A1D74D1F}" type="slidenum">
              <a:rPr b="1" lang="en-US" sz="12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14264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4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2"/>
          </p:nvPr>
        </p:nvSpPr>
        <p:spPr>
          <a:xfrm>
            <a:off x="114264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4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700"/>
              </a:spcBef>
              <a:buClr>
                <a:srgbClr val="0099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655640" y="0"/>
            <a:ext cx="58327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3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" name="" descr=""/>
            <p:cNvPicPr/>
            <p:nvPr/>
          </p:nvPicPr>
          <p:blipFill>
            <a:blip r:embed="rId2"/>
            <a:stretch/>
          </p:blipFill>
          <p:spPr>
            <a:xfrm>
              <a:off x="2104920" y="343080"/>
              <a:ext cx="4934160" cy="6172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ntermediate Value Theore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ny polynomial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with real coefficients, suppose that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re of opposite signs. Then the function has a real zero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sing the intermediate value theorem, determine, if possible, whether the function has a real zero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8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)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8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olu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61760" y="1218960"/>
            <a:ext cx="7848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fi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determine where they differ in sign. The graph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rovides a visual che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=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8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=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8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the intermediate value theorem, sinc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have opposite signs, th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has a zero betwee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410080" y="2133720"/>
            <a:ext cx="2381400" cy="23810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5334120" y="3124080"/>
            <a:ext cx="609480" cy="53352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27432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z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964920" y="1905120"/>
            <a:ext cx="1521000" cy="368280"/>
          </a:xfrm>
          <a:prstGeom prst="rect">
            <a:avLst/>
          </a:prstGeom>
          <a:solidFill>
            <a:srgbClr val="008000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8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olu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90720" y="1219320"/>
            <a:ext cx="72388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 = (1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(1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8(1)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) = (3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(3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8(3) =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the intermediate value theorem, sinc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) have opposite signs, th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has a zero between 1 and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971800" y="3657600"/>
            <a:ext cx="2381400" cy="23814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 flipH="1">
            <a:off x="4648320" y="4648320"/>
            <a:ext cx="838080" cy="5331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029200" y="4267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z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755240" y="3505320"/>
            <a:ext cx="1521000" cy="368280"/>
          </a:xfrm>
          <a:prstGeom prst="rect">
            <a:avLst/>
          </a:prstGeom>
          <a:solidFill>
            <a:srgbClr val="008000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8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CHA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P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TER 4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: </a:t>
            </a:r>
            <a:br>
              <a:rPr sz="4400"/>
            </a:br>
            <a:r>
              <a:rPr b="0" lang="en-US" sz="4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Polynomial and</a:t>
            </a:r>
            <a:br>
              <a:rPr sz="4400"/>
            </a:b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Rational Functions</a:t>
            </a: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37720" y="289512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1 Polynomial Functions and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2 Graphing Polynom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3 Polynomial Division; The Remainder and Factor Theor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4 Theorems about Zeros of Polynom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5 Ration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6 Polynomial and Rational Inequa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4.2 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Graphing Polynomial Functions</a:t>
            </a:r>
            <a:br>
              <a:rPr sz="3600"/>
            </a:b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440" y="22856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75000"/>
              <a:buFont typeface="Symbol" charset="2"/>
              <a:buChar char="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 polynomial fun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75000"/>
              <a:buFont typeface="Symbol" charset="2"/>
              <a:buChar char="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the intermediate value theorem to determine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ther a function has a real zero between two give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l numb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Graphing Polynomial Funct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0663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s a polynomial function of degre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graph of the function h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al zeros, and thu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intercept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 turning poi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urning points on a graph, also called relative maxima and minima, occur when the function changes from decreasing to increasing or from increasing to decreasing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Steps to Graph a Polynomial Function 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the leading-term test to determine the end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he zeros of the function by solv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0. Any real zeros are the first coordinates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intercep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intercepts (zeros) to divide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axis into intervals and choose a test point in each interval to determine the sign of all function values in that interv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0). This give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intercept of the 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necessary, find additional function values to determine the general shape of the graph and then draw the gra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partial check, use the facts that the graph has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intercepts an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 turning points. Multiplicity of zeros can also be considered in order to check where the graph crosses or is tangent to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axis. We can also check the graph with a graphing calcula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 the polynomial func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8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The leading term is 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The degree, 3, is odd, the coefficient, 2, is positive. Thus the end behavior of the graph will appear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the zero, we solv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. Here we can use factoring by group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638680" y="388620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 continued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720" y="1523880"/>
            <a:ext cx="80769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zeros a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, and 2.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intercepts are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, 0),     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, 0), and (2, 0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zeros divide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axis into four interv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,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),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, 2), and (2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hoose a test value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om each interval and fi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057400" y="1600200"/>
          <a:ext cx="2979720" cy="182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600200"/>
                    <a:ext cx="2979720" cy="18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 continued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090440" y="1627200"/>
            <a:ext cx="7477200" cy="2563920"/>
            <a:chOff x="1090440" y="1627200"/>
            <a:chExt cx="7477200" cy="2563920"/>
          </a:xfrm>
        </p:grpSpPr>
        <p:sp>
          <p:nvSpPr>
            <p:cNvPr id="102" name=""/>
            <p:cNvSpPr/>
            <p:nvPr/>
          </p:nvSpPr>
          <p:spPr>
            <a:xfrm>
              <a:off x="6559920" y="3767760"/>
              <a:ext cx="2007360" cy="42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0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bov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ax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105880" y="3767760"/>
              <a:ext cx="1453680" cy="42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0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720960" y="3767760"/>
              <a:ext cx="1384560" cy="42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0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585880" y="3767760"/>
              <a:ext cx="1134720" cy="42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0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090440" y="3767760"/>
              <a:ext cx="1495440" cy="42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0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2,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59920" y="3344040"/>
              <a:ext cx="2007360" cy="42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0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elow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ax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105880" y="3344040"/>
              <a:ext cx="1453680" cy="42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0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720960" y="3344040"/>
              <a:ext cx="1384560" cy="42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0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85880" y="3344040"/>
              <a:ext cx="1134720" cy="42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0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090440" y="3344040"/>
              <a:ext cx="1495440" cy="42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0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/2, 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559920" y="2920680"/>
              <a:ext cx="2007360" cy="42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0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bov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ax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105880" y="2920680"/>
              <a:ext cx="1453680" cy="42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0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720960" y="2920680"/>
              <a:ext cx="1384560" cy="42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0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585880" y="2920680"/>
              <a:ext cx="1134720" cy="42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0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90440" y="2920680"/>
              <a:ext cx="1495440" cy="42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0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,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/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559920" y="2466360"/>
              <a:ext cx="2007360" cy="45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elow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ax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05880" y="2466360"/>
              <a:ext cx="1453680" cy="45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720960" y="2466360"/>
              <a:ext cx="1384560" cy="45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85880" y="2466360"/>
              <a:ext cx="1134720" cy="45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090440" y="2466360"/>
              <a:ext cx="1495440" cy="45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559920" y="1627200"/>
              <a:ext cx="2007360" cy="83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ocation of points on grap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05880" y="1627200"/>
              <a:ext cx="1453680" cy="83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ign o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720960" y="1627200"/>
              <a:ext cx="1384560" cy="83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unction value,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585880" y="1627200"/>
              <a:ext cx="1134720" cy="83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est Value,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090440" y="1627200"/>
              <a:ext cx="1495440" cy="83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terv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090440" y="1627200"/>
              <a:ext cx="74772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090440" y="2466360"/>
              <a:ext cx="747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090440" y="2920680"/>
              <a:ext cx="747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090440" y="3344040"/>
              <a:ext cx="747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090440" y="3767760"/>
              <a:ext cx="747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90440" y="4191120"/>
              <a:ext cx="74772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090440" y="1627200"/>
              <a:ext cx="0" cy="25639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585880" y="1627200"/>
              <a:ext cx="0" cy="256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720960" y="1627200"/>
              <a:ext cx="0" cy="256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105880" y="1627200"/>
              <a:ext cx="0" cy="256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559920" y="1627200"/>
              <a:ext cx="0" cy="256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567640" y="1627200"/>
              <a:ext cx="0" cy="25639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990720" y="4343400"/>
            <a:ext cx="7924680" cy="16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 To determine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intercept, we fi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0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intercept is 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613400" y="4800600"/>
          <a:ext cx="392112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3400" y="4800600"/>
                    <a:ext cx="39211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 continued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45720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find a few additional points and complete the gra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gre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3. The graph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have at most 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intercepts and at most 2 turning points. It has 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intercepts and 2 turning points. Each zero has a multiplicity of 1; thus the graph crosse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axis a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, and 2. The graph has the end behavior described in step (1). The graph appears to be corr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410080" y="3581280"/>
            <a:ext cx="2381400" cy="238140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5638680" y="1447920"/>
            <a:ext cx="1644840" cy="1944720"/>
            <a:chOff x="5638680" y="1447920"/>
            <a:chExt cx="1644840" cy="1944720"/>
          </a:xfrm>
        </p:grpSpPr>
        <p:sp>
          <p:nvSpPr>
            <p:cNvPr id="146" name=""/>
            <p:cNvSpPr/>
            <p:nvPr/>
          </p:nvSpPr>
          <p:spPr>
            <a:xfrm>
              <a:off x="6461280" y="2932200"/>
              <a:ext cx="82224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638680" y="2932200"/>
              <a:ext cx="82260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.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461280" y="2470320"/>
              <a:ext cx="82224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.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638680" y="2470320"/>
              <a:ext cx="82260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.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461280" y="1909800"/>
              <a:ext cx="82224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638680" y="1909800"/>
              <a:ext cx="8226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.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461280" y="1447920"/>
              <a:ext cx="82224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638680" y="1447920"/>
              <a:ext cx="82260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638680" y="1447920"/>
              <a:ext cx="16448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638680" y="1909800"/>
              <a:ext cx="164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638680" y="2470320"/>
              <a:ext cx="164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638680" y="2932200"/>
              <a:ext cx="164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638680" y="3392640"/>
              <a:ext cx="16448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638680" y="1447920"/>
              <a:ext cx="0" cy="19447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461280" y="1447920"/>
              <a:ext cx="0" cy="194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283520" y="1447920"/>
              <a:ext cx="0" cy="19447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9T18:30:59Z</dcterms:created>
  <dc:creator>Addison Wesley</dc:creator>
  <dc:description/>
  <dc:language>en-US</dc:language>
  <cp:lastModifiedBy>Jennifer Thomas</cp:lastModifiedBy>
  <dcterms:modified xsi:type="dcterms:W3CDTF">2008-04-07T13:38:03Z</dcterms:modified>
  <cp:revision>190</cp:revision>
  <dc:subject/>
  <dc:title>No Slide Title</dc:title>
</cp:coreProperties>
</file>